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38160" y="4788000"/>
            <a:ext cx="12928680" cy="1904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425320"/>
            <a:ext cx="11633040" cy="231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5130360"/>
            <a:ext cx="1163304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5544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9536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3564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95720"/>
            <a:ext cx="1163304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5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8686800"/>
            <a:ext cx="11633040" cy="63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"/>
          </a:bodyPr>
          <a:p>
            <a:pPr indent="0"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851040" y="520560"/>
            <a:ext cx="11277360" cy="729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5544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9536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3564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 rot="80400">
            <a:off x="837720" y="4737240"/>
            <a:ext cx="5245200" cy="25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41308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5054760"/>
            <a:ext cx="5562720" cy="125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 rot="5400000">
            <a:off x="6378120" y="2147400"/>
            <a:ext cx="6769080" cy="539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556272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56120" y="2692080"/>
            <a:ext cx="556236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2692080"/>
            <a:ext cx="556272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 rot="5400000">
            <a:off x="6378120" y="3227040"/>
            <a:ext cx="6769080" cy="539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149640"/>
            <a:ext cx="116330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800" y="533520"/>
            <a:ext cx="11633040" cy="868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6516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40976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5436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425320"/>
            <a:ext cx="11633040" cy="231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The Water Cycle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5130360"/>
            <a:ext cx="1163304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around and around and around...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What about water?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61244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4" marL="2349360" indent="-57132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How old is the water you drank today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349360" indent="-57132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Where does water come from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349360" indent="-57132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Does water ever go away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33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You might be drinking the same water the dinosaurs drank!!!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2755800" y="3720960"/>
            <a:ext cx="684540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1422360" y="1193760"/>
            <a:ext cx="10159920" cy="69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Parts of the water cycle to remember: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torage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Evaporation/Transpiration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ondensation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Precipitation 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Runoff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